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5.png" ContentType="image/png"/>
  <Override PartName="/ppt/media/image10.png" ContentType="image/png"/>
  <Override PartName="/ppt/media/image30.wmf" ContentType="image/x-wmf"/>
  <Override PartName="/ppt/media/image14.wmf" ContentType="image/x-wmf"/>
  <Override PartName="/ppt/media/image6.png" ContentType="image/png"/>
  <Override PartName="/ppt/media/image13.png" ContentType="image/png"/>
  <Override PartName="/ppt/media/image11.png" ContentType="image/png"/>
  <Override PartName="/ppt/media/image7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0.wmf" ContentType="image/x-wmf"/>
  <Override PartName="/ppt/media/image26.jpeg" ContentType="image/jpeg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BDF-16AB-40A6-AE11-739AA1EC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85D-2901-4580-A02A-AF740CEF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50B-1165-41CD-95E8-1EDB9756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E1E-BC49-4ED0-B446-3288F09C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459E-667C-4877-A003-BB85E1D7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76DC-9260-4BBE-9FC2-E6252498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9469-831F-41D8-A385-485B66D2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983E-398C-4094-AEAF-B732837A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A388-0A0D-47BA-86B0-54654419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D9DF-2076-4384-8296-76341EDC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3F98-B338-43C6-93C3-4B45B963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3B1-DED2-4A2F-AF17-DFCEDFDE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9F42-FAAD-486A-BF71-8E93A543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4F45-35FF-416B-85BD-687A721D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4FEF-A646-40BF-B8A2-F147414F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2685-4249-491C-AFF0-05BC9FCE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416D-453B-45D5-B877-75B8EE25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1C5-1CD2-4EB7-81AE-9CDCCE60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EC7-CFFC-408D-A90D-0942543C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7BC-E088-4A6D-A62B-F8C8B19A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CCF-8FC9-4BF2-9F0A-A53C3B1A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E99-6BEF-4B7B-8744-F9B3DF6B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ED4-9280-46BE-B407-C6845562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7D7-B210-44D7-B960-967AE658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01"/>
          <p:cNvPicPr/>
          <p:nvPr/>
        </p:nvPicPr>
        <p:blipFill>
          <a:blip r:embed="rId2"/>
          <a:srcRect l="8527" t="0" r="0" b="6250"/>
          <a:stretch/>
        </p:blipFill>
        <p:spPr>
          <a:xfrm>
            <a:off x="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9"/>
          <p:cNvSpPr/>
          <p:nvPr/>
        </p:nvSpPr>
        <p:spPr>
          <a:xfrm>
            <a:off x="228600" y="0"/>
            <a:ext cx="8915400" cy="6883560"/>
          </a:xfrm>
          <a:prstGeom prst="pie">
            <a:avLst/>
          </a:prstGeom>
          <a:gradFill rotWithShape="0">
            <a:gsLst>
              <a:gs pos="0">
                <a:srgbClr val="5fb5ef"/>
              </a:gs>
              <a:gs pos="100000">
                <a:srgbClr val="c9e6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819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028840" y="647676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984D-F105-407C-8A62-63911D26E7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06"/>
          <p:cNvPicPr/>
          <p:nvPr/>
        </p:nvPicPr>
        <p:blipFill>
          <a:blip r:embed="rId3"/>
          <a:stretch/>
        </p:blipFill>
        <p:spPr>
          <a:xfrm>
            <a:off x="76320" y="5638680"/>
            <a:ext cx="1676160" cy="115596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762120" y="380880"/>
            <a:ext cx="6781320" cy="609840"/>
            <a:chOff x="762120" y="380880"/>
            <a:chExt cx="6781320" cy="609840"/>
          </a:xfrm>
        </p:grpSpPr>
        <p:sp>
          <p:nvSpPr>
            <p:cNvPr id="9" name="Line 23"/>
            <p:cNvSpPr/>
            <p:nvPr/>
          </p:nvSpPr>
          <p:spPr>
            <a:xfrm>
              <a:off x="762120" y="3808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4"/>
            <p:cNvSpPr/>
            <p:nvPr/>
          </p:nvSpPr>
          <p:spPr>
            <a:xfrm>
              <a:off x="762120" y="53316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25"/>
            <p:cNvSpPr/>
            <p:nvPr/>
          </p:nvSpPr>
          <p:spPr>
            <a:xfrm>
              <a:off x="762120" y="68580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26"/>
            <p:cNvSpPr/>
            <p:nvPr/>
          </p:nvSpPr>
          <p:spPr>
            <a:xfrm>
              <a:off x="762120" y="8380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7"/>
            <p:cNvSpPr/>
            <p:nvPr/>
          </p:nvSpPr>
          <p:spPr>
            <a:xfrm>
              <a:off x="762120" y="99072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>
            <a:off x="3657600" y="52578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3657600" y="54864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3657600" y="57150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3657600" y="59436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3657600" y="61722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9" descr="03"/>
          <p:cNvPicPr/>
          <p:nvPr/>
        </p:nvPicPr>
        <p:blipFill>
          <a:blip r:embed="rId3"/>
          <a:stretch/>
        </p:blipFill>
        <p:spPr>
          <a:xfrm>
            <a:off x="1444680" y="0"/>
            <a:ext cx="384120" cy="61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04"/>
          <p:cNvPicPr/>
          <p:nvPr/>
        </p:nvPicPr>
        <p:blipFill>
          <a:blip r:embed="rId4"/>
          <a:stretch/>
        </p:blipFill>
        <p:spPr>
          <a:xfrm>
            <a:off x="1676520" y="1193760"/>
            <a:ext cx="396720" cy="635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7A57-6DE9-4E8D-99E1-41ECB988A9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wmf"/><Relationship Id="rId1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6.wmf"/><Relationship Id="rId18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wmf"/><Relationship Id="rId1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533520"/>
            <a:ext cx="9177480" cy="6324480"/>
            <a:chOff x="0" y="533520"/>
            <a:chExt cx="9177480" cy="6324480"/>
          </a:xfrm>
        </p:grpSpPr>
        <p:sp>
          <p:nvSpPr>
            <p:cNvPr id="100" name="Rectangle 3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520052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102" name="Freeform 5"/>
              <p:cNvSpPr/>
              <p:nvPr/>
            </p:nvSpPr>
            <p:spPr>
              <a:xfrm>
                <a:off x="317520" y="2113200"/>
                <a:ext cx="376200" cy="474480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4744800"/>
                  <a:gd name="textAreaBottom" fmla="*/ 4745160 h 4744800"/>
                </a:gdLst>
                <a:ahLst/>
                <a:rect l="textAreaLeft" t="textAreaTop" r="textAreaRight" b="textAreaBottom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6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3438720"/>
                  <a:gd name="textAreaBottom" fmla="*/ 3439080 h 3438720"/>
                </a:gdLst>
                <a:ahLst/>
                <a:rect l="textAreaLeft" t="textAreaTop" r="textAreaRight" b="textAreaBottom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7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2004840"/>
                  <a:gd name="textAreaBottom" fmla="*/ 2005200 h 2004840"/>
                </a:gdLst>
                <a:ahLst/>
                <a:rect l="textAreaLeft" t="textAreaTop" r="textAreaRight" b="textAreaBottom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106" name="Freeform 9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>
                    <a:gd name="textAreaLeft" fmla="*/ 0 w 1761840"/>
                    <a:gd name="textAreaRight" fmla="*/ 1762200 w 1761840"/>
                    <a:gd name="textAreaTop" fmla="*/ 0 h 1766880"/>
                    <a:gd name="textAreaBottom" fmla="*/ 1767240 h 1766880"/>
                  </a:gdLst>
                  <a:ahLst/>
                  <a:rect l="textAreaLeft" t="textAreaTop" r="textAreaRight" b="textAreaBottom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10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>
                    <a:gd name="textAreaLeft" fmla="*/ 0 w 157320"/>
                    <a:gd name="textAreaRight" fmla="*/ 157320 w 157320"/>
                    <a:gd name="textAreaTop" fmla="*/ 0 h 992160"/>
                    <a:gd name="textAreaBottom" fmla="*/ 992520 h 992160"/>
                  </a:gdLst>
                  <a:ahLst/>
                  <a:rect l="textAreaLeft" t="textAreaTop" r="textAreaRight" b="textAreaBottom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11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>
                    <a:gd name="textAreaLeft" fmla="*/ 0 w 692280"/>
                    <a:gd name="textAreaRight" fmla="*/ 692640 w 69228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12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>
                    <a:gd name="textAreaLeft" fmla="*/ 0 w 716040"/>
                    <a:gd name="textAreaRight" fmla="*/ 716040 w 7160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Freeform 13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1925640"/>
                  <a:gd name="textAreaBottom" fmla="*/ 1926000 h 1925640"/>
                </a:gdLst>
                <a:ahLst/>
                <a:rect l="textAreaLeft" t="textAreaTop" r="textAreaRight" b="textAreaBottom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Arc 14"/>
            <p:cNvSpPr/>
            <p:nvPr/>
          </p:nvSpPr>
          <p:spPr>
            <a:xfrm>
              <a:off x="0" y="6624720"/>
              <a:ext cx="9132840" cy="219240"/>
            </a:xfrm>
            <a:custGeom>
              <a:avLst/>
              <a:gdLst>
                <a:gd name="textAreaLeft" fmla="*/ 0 w 9132840"/>
                <a:gd name="textAreaRight" fmla="*/ 9132840 w 9132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fill="none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706"/>
                    <a:pt x="43199" y="21812"/>
                    <a:pt x="43197" y="21917"/>
                  </a:cubicBezTo>
                </a:path>
                <a:path stroke="0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706"/>
                    <a:pt x="43199" y="21812"/>
                    <a:pt x="43197" y="21917"/>
                  </a:cubicBezTo>
                  <a:lnTo>
                    <a:pt x="21600" y="21600"/>
                  </a:lnTo>
                  <a:lnTo>
                    <a:pt x="2" y="21917"/>
                  </a:lnTo>
                  <a:close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3581280" y="5334120"/>
              <a:ext cx="1817640" cy="1332000"/>
              <a:chOff x="3581280" y="5334120"/>
              <a:chExt cx="1817640" cy="1332000"/>
            </a:xfrm>
          </p:grpSpPr>
          <p:sp>
            <p:nvSpPr>
              <p:cNvPr id="114" name="Oval 17"/>
              <p:cNvSpPr/>
              <p:nvPr/>
            </p:nvSpPr>
            <p:spPr>
              <a:xfrm>
                <a:off x="3740040" y="5334120"/>
                <a:ext cx="15746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7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8"/>
              <p:cNvSpPr/>
              <p:nvPr/>
            </p:nvSpPr>
            <p:spPr>
              <a:xfrm>
                <a:off x="3581280" y="6180120"/>
                <a:ext cx="1817640" cy="48600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7821720" y="2362320"/>
                  <a:ext cx="1285920" cy="4419720"/>
                  <a:chOff x="7821720" y="2362320"/>
                  <a:chExt cx="1285920" cy="4419720"/>
                </a:xfrm>
              </p:grpSpPr>
              <p:sp>
                <p:nvSpPr>
                  <p:cNvPr id="119" name="Freeform 22"/>
                  <p:cNvSpPr/>
                  <p:nvPr/>
                </p:nvSpPr>
                <p:spPr>
                  <a:xfrm>
                    <a:off x="8591760" y="3297240"/>
                    <a:ext cx="461880" cy="34848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3484800"/>
                      <a:gd name="textAreaBottom" fmla="*/ 3485160 h 3484800"/>
                    </a:gdLst>
                    <a:ahLst/>
                    <a:rect l="textAreaLeft" t="textAreaTop" r="textAreaRight" b="textAreaBottom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23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2541600"/>
                      <a:gd name="textAreaBottom" fmla="*/ 2541960 h 2541600"/>
                    </a:gdLst>
                    <a:ahLst/>
                    <a:rect l="textAreaLeft" t="textAreaTop" r="textAreaRight" b="textAreaBottom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6477120" y="3560760"/>
                  <a:ext cx="2405160" cy="3286080"/>
                  <a:chOff x="6477120" y="3560760"/>
                  <a:chExt cx="2405160" cy="3286080"/>
                </a:xfrm>
              </p:grpSpPr>
              <p:sp>
                <p:nvSpPr>
                  <p:cNvPr id="122" name="Freeform 25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>
                      <a:gd name="textAreaLeft" fmla="*/ 0 w 662040"/>
                      <a:gd name="textAreaRight" fmla="*/ 662400 w 662040"/>
                      <a:gd name="textAreaTop" fmla="*/ 0 h 2709720"/>
                      <a:gd name="textAreaBottom" fmla="*/ 2710080 h 2709720"/>
                    </a:gdLst>
                    <a:ahLst/>
                    <a:rect l="textAreaLeft" t="textAreaTop" r="textAreaRight" b="textAreaBottom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26"/>
                  <p:cNvSpPr/>
                  <p:nvPr/>
                </p:nvSpPr>
                <p:spPr>
                  <a:xfrm>
                    <a:off x="7601040" y="4575240"/>
                    <a:ext cx="1184400" cy="1949400"/>
                  </a:xfrm>
                  <a:custGeom>
                    <a:avLst/>
                    <a:gdLst>
                      <a:gd name="textAreaLeft" fmla="*/ 0 w 1184400"/>
                      <a:gd name="textAreaRight" fmla="*/ 1184760 w 1184400"/>
                      <a:gd name="textAreaTop" fmla="*/ 0 h 1949400"/>
                      <a:gd name="textAreaBottom" fmla="*/ 1949760 h 1949400"/>
                    </a:gdLst>
                    <a:ahLst/>
                    <a:rect l="textAreaLeft" t="textAreaTop" r="textAreaRight" b="textAreaBottom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6477120" y="3560760"/>
                    <a:ext cx="2405160" cy="1901880"/>
                    <a:chOff x="6477120" y="3560760"/>
                    <a:chExt cx="2405160" cy="1901880"/>
                  </a:xfrm>
                </p:grpSpPr>
                <p:sp>
                  <p:nvSpPr>
                    <p:cNvPr id="125" name="Freeform 28"/>
                    <p:cNvSpPr/>
                    <p:nvPr/>
                  </p:nvSpPr>
                  <p:spPr>
                    <a:xfrm>
                      <a:off x="6705720" y="3560760"/>
                      <a:ext cx="2176560" cy="1771560"/>
                    </a:xfrm>
                    <a:custGeom>
                      <a:avLst/>
                      <a:gdLst>
                        <a:gd name="textAreaLeft" fmla="*/ 0 w 2176560"/>
                        <a:gd name="textAreaRight" fmla="*/ 2176920 w 2176560"/>
                        <a:gd name="textAreaTop" fmla="*/ 0 h 1771560"/>
                        <a:gd name="textAreaBottom" fmla="*/ 1771920 h 1771560"/>
                      </a:gdLst>
                      <a:ahLst/>
                      <a:rect l="textAreaLeft" t="textAreaTop" r="textAreaRight" b="textAreaBottom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29"/>
                    <p:cNvSpPr/>
                    <p:nvPr/>
                  </p:nvSpPr>
                  <p:spPr>
                    <a:xfrm>
                      <a:off x="7448760" y="4467240"/>
                      <a:ext cx="191880" cy="995400"/>
                    </a:xfrm>
                    <a:custGeom>
                      <a:avLst/>
                      <a:gdLst>
                        <a:gd name="textAreaLeft" fmla="*/ 0 w 191880"/>
                        <a:gd name="textAreaRight" fmla="*/ 192240 w 191880"/>
                        <a:gd name="textAreaTop" fmla="*/ 0 h 995400"/>
                        <a:gd name="textAreaBottom" fmla="*/ 995760 h 995400"/>
                      </a:gdLst>
                      <a:ahLst/>
                      <a:rect l="textAreaLeft" t="textAreaTop" r="textAreaRight" b="textAreaBottom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Freeform 30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>
                        <a:gd name="textAreaLeft" fmla="*/ 0 w 853920"/>
                        <a:gd name="textAreaRight" fmla="*/ 854280 w 85392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31"/>
                    <p:cNvSpPr/>
                    <p:nvPr/>
                  </p:nvSpPr>
                  <p:spPr>
                    <a:xfrm>
                      <a:off x="6477120" y="4068720"/>
                      <a:ext cx="885960" cy="106560"/>
                    </a:xfrm>
                    <a:custGeom>
                      <a:avLst/>
                      <a:gdLst>
                        <a:gd name="textAreaLeft" fmla="*/ 0 w 885960"/>
                        <a:gd name="textAreaRight" fmla="*/ 886320 w 8859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9" name="Freeform 32"/>
              <p:cNvSpPr/>
              <p:nvPr/>
            </p:nvSpPr>
            <p:spPr>
              <a:xfrm>
                <a:off x="8388360" y="4496040"/>
                <a:ext cx="789120" cy="1242720"/>
              </a:xfrm>
              <a:custGeom>
                <a:avLst/>
                <a:gdLst>
                  <a:gd name="textAreaLeft" fmla="*/ 0 w 789120"/>
                  <a:gd name="textAreaRight" fmla="*/ 789480 w 789120"/>
                  <a:gd name="textAreaTop" fmla="*/ 0 h 1242720"/>
                  <a:gd name="textAreaBottom" fmla="*/ 1243080 h 1242720"/>
                </a:gdLst>
                <a:ahLst/>
                <a:rect l="textAreaLeft" t="textAreaTop" r="textAreaRight" b="textAreaBottom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3"/>
              <p:cNvSpPr/>
              <p:nvPr/>
            </p:nvSpPr>
            <p:spPr>
              <a:xfrm>
                <a:off x="7942320" y="2760840"/>
                <a:ext cx="1219320" cy="170028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700280"/>
                  <a:gd name="textAreaBottom" fmla="*/ 1700640 h 1700280"/>
                </a:gdLst>
                <a:ahLst/>
                <a:rect l="textAreaLeft" t="textAreaTop" r="textAreaRight" b="textAreaBottom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Freeform 2"/>
          <p:cNvSpPr/>
          <p:nvPr/>
        </p:nvSpPr>
        <p:spPr>
          <a:xfrm>
            <a:off x="971640" y="3213000"/>
            <a:ext cx="7024680" cy="194328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960480" y="5273640"/>
            <a:ext cx="129708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3780000" y="5300640"/>
            <a:ext cx="1296720" cy="1295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研读课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2346480" y="5273640"/>
            <a:ext cx="1296720" cy="1295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展示目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5249880" y="5273640"/>
            <a:ext cx="1297080" cy="1295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归纳小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6713640" y="5273640"/>
            <a:ext cx="1296720" cy="1295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强化训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1692360" y="1197000"/>
            <a:ext cx="5688000" cy="20700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引导学生读懂数学书”课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研究成果配套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8"/>
          <p:cNvSpPr/>
          <p:nvPr/>
        </p:nvSpPr>
        <p:spPr>
          <a:xfrm>
            <a:off x="1403280" y="1990800"/>
            <a:ext cx="7272360" cy="44625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6360" y="3716280"/>
            <a:ext cx="719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解：        在每一个象限内，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随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的增大而减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在每一个象限内，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随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的增大而增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在每一个象限内，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随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的增大而减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在每一个象限内，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随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的增大而增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2060640"/>
            <a:ext cx="568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观察分析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在每一个象限内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变化而如何变化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63640" y="1125360"/>
            <a:ext cx="4753080" cy="689040"/>
            <a:chOff x="1763640" y="1125360"/>
            <a:chExt cx="4753080" cy="689040"/>
          </a:xfrm>
        </p:grpSpPr>
        <p:sp>
          <p:nvSpPr>
            <p:cNvPr id="303" name="AutoShape 16"/>
            <p:cNvSpPr/>
            <p:nvPr/>
          </p:nvSpPr>
          <p:spPr>
            <a:xfrm>
              <a:off x="1763640" y="1125360"/>
              <a:ext cx="47530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30bf3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775160" y="1146600"/>
              <a:ext cx="4735440" cy="636840"/>
              <a:chOff x="1775160" y="1146600"/>
              <a:chExt cx="4735440" cy="636840"/>
            </a:xfrm>
          </p:grpSpPr>
          <p:sp>
            <p:nvSpPr>
              <p:cNvPr id="305" name="AutoShape 18"/>
              <p:cNvSpPr/>
              <p:nvPr/>
            </p:nvSpPr>
            <p:spPr>
              <a:xfrm>
                <a:off x="1775160" y="161856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a85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19"/>
              <p:cNvSpPr/>
              <p:nvPr/>
            </p:nvSpPr>
            <p:spPr>
              <a:xfrm>
                <a:off x="1775160" y="114660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8a85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Rectangle 3"/>
          <p:cNvGraphicFramePr/>
          <p:nvPr/>
        </p:nvGraphicFramePr>
        <p:xfrm>
          <a:off x="6084720" y="1989000"/>
          <a:ext cx="25092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989000"/>
                    <a:ext cx="2509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Rectangle 3"/>
          <p:cNvGraphicFramePr/>
          <p:nvPr/>
        </p:nvGraphicFramePr>
        <p:xfrm>
          <a:off x="2124000" y="4941720"/>
          <a:ext cx="84312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Rectangle 3" descr="北京市海淀区龙文文化培训学校 www.longwenedu.com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941720"/>
                    <a:ext cx="8431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Picture 4" descr="3"/>
          <p:cNvPicPr/>
          <p:nvPr/>
        </p:nvPicPr>
        <p:blipFill>
          <a:blip r:embed="rId5"/>
          <a:stretch/>
        </p:blipFill>
        <p:spPr>
          <a:xfrm>
            <a:off x="0" y="40464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0040" y="2230560"/>
            <a:ext cx="729000" cy="20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知识点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36720" y="11937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比例函数的图像和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761000" y="1989000"/>
          <a:ext cx="277560" cy="5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61000" y="1989000"/>
                    <a:ext cx="27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987640" y="2349360"/>
          <a:ext cx="254160" cy="649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2349360"/>
                    <a:ext cx="2541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389480" y="2349360"/>
          <a:ext cx="253800" cy="64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89480" y="2349360"/>
                    <a:ext cx="2538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2124000" y="3789360"/>
          <a:ext cx="871560" cy="725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" descr="北京市海淀区龙文文化培训学校 www.longwenedu.com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24000" y="3789360"/>
                    <a:ext cx="8715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050920" y="4365720"/>
          <a:ext cx="90036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7" name="" descr="北京市海淀区龙文文化培训学校 www.longwenedu.com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50920" y="4365720"/>
                    <a:ext cx="900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Rectangle 3"/>
          <p:cNvGraphicFramePr/>
          <p:nvPr/>
        </p:nvGraphicFramePr>
        <p:xfrm>
          <a:off x="2124000" y="5589720"/>
          <a:ext cx="792360" cy="647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9" name="Rectangle 3" descr="北京市海淀区龙文文化培训学校 www.longwenedu.com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24000" y="5589720"/>
                    <a:ext cx="792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30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00"/>
                            </p:stCondLst>
                            <p:childTnLst>
                              <p:par>
                                <p:cTn id="3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四、归纳小结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8"/>
          <p:cNvSpPr/>
          <p:nvPr/>
        </p:nvSpPr>
        <p:spPr>
          <a:xfrm>
            <a:off x="1693800" y="1628640"/>
            <a:ext cx="6046920" cy="3675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08000" y="1917720"/>
            <a:ext cx="56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反比例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=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常数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≠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的图象是双曲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&gt;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，双曲线的两支分别位于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象限，在每个象限内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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值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值的增大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&lt;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，双曲线的两支分别位于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象限，在每个象限内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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值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值的增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00160" y="29242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一、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34440" y="32846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减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93200" y="4005360"/>
            <a:ext cx="33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二、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37200" y="4437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增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Rectangle 3"/>
          <p:cNvGraphicFramePr/>
          <p:nvPr/>
        </p:nvGraphicFramePr>
        <p:xfrm>
          <a:off x="4427640" y="1700280"/>
          <a:ext cx="266760" cy="72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700280"/>
                    <a:ext cx="2667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四、归纳小结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8"/>
          <p:cNvSpPr/>
          <p:nvPr/>
        </p:nvSpPr>
        <p:spPr>
          <a:xfrm>
            <a:off x="1693800" y="1628640"/>
            <a:ext cx="6046920" cy="3675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35280" y="1844640"/>
            <a:ext cx="59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反比例函数图象的两个分支关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称，且随着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|x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断增大（或减小），反比例函数的图象越来越接近于坐标轴，但永不相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学习反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_________________________________________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17733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原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34920" y="1890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五、强化训练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1908000" y="1341360"/>
            <a:ext cx="7056720" cy="5112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1908000" y="1125360"/>
            <a:ext cx="69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1908000" y="5373720"/>
            <a:ext cx="6840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979640" y="1917720"/>
            <a:ext cx="66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如图，这是下列四个函数中哪一个函数的图象？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A)  y = 5x            (B) y = 2x+3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C)  y =                 (D)  y =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564000" y="4797360"/>
          <a:ext cx="309600" cy="7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4797360"/>
                    <a:ext cx="3096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7164360" y="4797360"/>
                <a:ext cx="309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6443640" y="2492280"/>
            <a:ext cx="1636560" cy="1871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5580000" y="2421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34920" y="1890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五、强化训练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1908000" y="1341360"/>
            <a:ext cx="7056720" cy="5112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8"/>
          <p:cNvSpPr/>
          <p:nvPr/>
        </p:nvSpPr>
        <p:spPr>
          <a:xfrm>
            <a:off x="1908000" y="1125360"/>
            <a:ext cx="69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908000" y="5373720"/>
            <a:ext cx="6840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268360" y="1557360"/>
            <a:ext cx="66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请指出下面的图象中哪一个是反比例函数的图象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365640" cy="3960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211640" y="198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五、强化训练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1908000" y="1341360"/>
            <a:ext cx="7056720" cy="5112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8"/>
          <p:cNvSpPr/>
          <p:nvPr/>
        </p:nvSpPr>
        <p:spPr>
          <a:xfrm>
            <a:off x="1908000" y="1125360"/>
            <a:ext cx="69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1908000" y="5373720"/>
            <a:ext cx="6840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124000" y="1557360"/>
            <a:ext cx="6624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如果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，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在某双曲线上，那么该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曲线的解析式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下列函数中，当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＞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时，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随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增大而减小的是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     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A)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C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D) 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24360" y="357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724360" y="4005360"/>
          <a:ext cx="100836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北京市海淀区龙文文化培训学校 www.longwenedu.com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4005360"/>
                    <a:ext cx="100836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843280" y="4924440"/>
                <a:ext cx="1190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Rectangle 3"/>
              <p:cNvSpPr txBox="1"/>
              <p:nvPr/>
            </p:nvSpPr>
            <p:spPr>
              <a:xfrm>
                <a:off x="5005440" y="2016000"/>
                <a:ext cx="9349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34920" y="1890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五、强化训练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1908000" y="1341360"/>
            <a:ext cx="7056720" cy="5112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1908000" y="5373720"/>
            <a:ext cx="6840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519280" y="1557360"/>
            <a:ext cx="6624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下列反比例函数图象一定在第一、三象限的是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     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B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已知反比例函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在第一、三象限内，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值可是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写出满足条件的一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值即可）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0360" y="1989000"/>
            <a:ext cx="3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203640" y="2708280"/>
                <a:ext cx="720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724360" y="2708280"/>
          <a:ext cx="952560" cy="6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" descr="北京市海淀区龙文文化培训学校 www.longwenedu.com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2708280"/>
                    <a:ext cx="952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132000" y="3429000"/>
                <a:ext cx="11160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97" name=""/>
          <p:cNvGraphicFramePr/>
          <p:nvPr/>
        </p:nvGraphicFramePr>
        <p:xfrm>
          <a:off x="5580000" y="3502080"/>
          <a:ext cx="827280" cy="59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8" name="" descr="北京市海淀区龙文文化培训学校 www.longwenedu.com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80000" y="3502080"/>
                    <a:ext cx="827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6877080" y="477216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6067440" y="4221000"/>
          <a:ext cx="520560" cy="5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67440" y="4221000"/>
                    <a:ext cx="520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4076640"/>
            <a:ext cx="563868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203640" y="2060640"/>
            <a:ext cx="56880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谢谢同学们的努力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0" y="533520"/>
            <a:ext cx="9177480" cy="6324480"/>
            <a:chOff x="0" y="533520"/>
            <a:chExt cx="9177480" cy="6324480"/>
          </a:xfrm>
        </p:grpSpPr>
        <p:sp>
          <p:nvSpPr>
            <p:cNvPr id="406" name="Rectangle 3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520052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408" name="Freeform 5"/>
              <p:cNvSpPr/>
              <p:nvPr/>
            </p:nvSpPr>
            <p:spPr>
              <a:xfrm>
                <a:off x="317520" y="2113200"/>
                <a:ext cx="376200" cy="474480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4744800"/>
                  <a:gd name="textAreaBottom" fmla="*/ 4745160 h 4744800"/>
                </a:gdLst>
                <a:ahLst/>
                <a:rect l="textAreaLeft" t="textAreaTop" r="textAreaRight" b="textAreaBottom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3438720"/>
                  <a:gd name="textAreaBottom" fmla="*/ 3439080 h 3438720"/>
                </a:gdLst>
                <a:ahLst/>
                <a:rect l="textAreaLeft" t="textAreaTop" r="textAreaRight" b="textAreaBottom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7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2004840"/>
                  <a:gd name="textAreaBottom" fmla="*/ 2005200 h 2004840"/>
                </a:gdLst>
                <a:ahLst/>
                <a:rect l="textAreaLeft" t="textAreaTop" r="textAreaRight" b="textAreaBottom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412" name="Freeform 9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>
                    <a:gd name="textAreaLeft" fmla="*/ 0 w 1761840"/>
                    <a:gd name="textAreaRight" fmla="*/ 1762200 w 1761840"/>
                    <a:gd name="textAreaTop" fmla="*/ 0 h 1766880"/>
                    <a:gd name="textAreaBottom" fmla="*/ 1767240 h 1766880"/>
                  </a:gdLst>
                  <a:ahLst/>
                  <a:rect l="textAreaLeft" t="textAreaTop" r="textAreaRight" b="textAreaBottom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10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>
                    <a:gd name="textAreaLeft" fmla="*/ 0 w 157320"/>
                    <a:gd name="textAreaRight" fmla="*/ 157320 w 157320"/>
                    <a:gd name="textAreaTop" fmla="*/ 0 h 992160"/>
                    <a:gd name="textAreaBottom" fmla="*/ 992520 h 992160"/>
                  </a:gdLst>
                  <a:ahLst/>
                  <a:rect l="textAreaLeft" t="textAreaTop" r="textAreaRight" b="textAreaBottom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1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>
                    <a:gd name="textAreaLeft" fmla="*/ 0 w 692280"/>
                    <a:gd name="textAreaRight" fmla="*/ 692640 w 69228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2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>
                    <a:gd name="textAreaLeft" fmla="*/ 0 w 716040"/>
                    <a:gd name="textAreaRight" fmla="*/ 716040 w 7160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Freeform 13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1925640"/>
                  <a:gd name="textAreaBottom" fmla="*/ 1926000 h 1925640"/>
                </a:gdLst>
                <a:ahLst/>
                <a:rect l="textAreaLeft" t="textAreaTop" r="textAreaRight" b="textAreaBottom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Arc 14"/>
            <p:cNvSpPr/>
            <p:nvPr/>
          </p:nvSpPr>
          <p:spPr>
            <a:xfrm>
              <a:off x="0" y="6624720"/>
              <a:ext cx="9132840" cy="219240"/>
            </a:xfrm>
            <a:custGeom>
              <a:avLst/>
              <a:gdLst>
                <a:gd name="textAreaLeft" fmla="*/ 0 w 9132840"/>
                <a:gd name="textAreaRight" fmla="*/ 9132840 w 9132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fill="none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706"/>
                    <a:pt x="43199" y="21812"/>
                    <a:pt x="43197" y="21917"/>
                  </a:cubicBezTo>
                </a:path>
                <a:path stroke="0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706"/>
                    <a:pt x="43199" y="21812"/>
                    <a:pt x="43197" y="21917"/>
                  </a:cubicBezTo>
                  <a:lnTo>
                    <a:pt x="21600" y="21600"/>
                  </a:lnTo>
                  <a:lnTo>
                    <a:pt x="2" y="21917"/>
                  </a:lnTo>
                  <a:close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5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581280" y="5334120"/>
              <a:ext cx="1817640" cy="1332000"/>
              <a:chOff x="3581280" y="5334120"/>
              <a:chExt cx="1817640" cy="1332000"/>
            </a:xfrm>
          </p:grpSpPr>
          <p:sp>
            <p:nvSpPr>
              <p:cNvPr id="420" name="Oval 17"/>
              <p:cNvSpPr/>
              <p:nvPr/>
            </p:nvSpPr>
            <p:spPr>
              <a:xfrm>
                <a:off x="3740040" y="5334120"/>
                <a:ext cx="15746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7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8"/>
              <p:cNvSpPr/>
              <p:nvPr/>
            </p:nvSpPr>
            <p:spPr>
              <a:xfrm>
                <a:off x="3581280" y="6180120"/>
                <a:ext cx="1817640" cy="48600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424" name=""/>
                <p:cNvGrpSpPr/>
                <p:nvPr/>
              </p:nvGrpSpPr>
              <p:grpSpPr>
                <a:xfrm>
                  <a:off x="7821720" y="2362320"/>
                  <a:ext cx="1285920" cy="4419720"/>
                  <a:chOff x="7821720" y="2362320"/>
                  <a:chExt cx="1285920" cy="4419720"/>
                </a:xfrm>
              </p:grpSpPr>
              <p:sp>
                <p:nvSpPr>
                  <p:cNvPr id="425" name="Freeform 22"/>
                  <p:cNvSpPr/>
                  <p:nvPr/>
                </p:nvSpPr>
                <p:spPr>
                  <a:xfrm>
                    <a:off x="8591760" y="3297240"/>
                    <a:ext cx="461880" cy="34848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3484800"/>
                      <a:gd name="textAreaBottom" fmla="*/ 3485160 h 3484800"/>
                    </a:gdLst>
                    <a:ahLst/>
                    <a:rect l="textAreaLeft" t="textAreaTop" r="textAreaRight" b="textAreaBottom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23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2541600"/>
                      <a:gd name="textAreaBottom" fmla="*/ 2541960 h 2541600"/>
                    </a:gdLst>
                    <a:ahLst/>
                    <a:rect l="textAreaLeft" t="textAreaTop" r="textAreaRight" b="textAreaBottom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6477120" y="3560760"/>
                  <a:ext cx="2405160" cy="3286080"/>
                  <a:chOff x="6477120" y="3560760"/>
                  <a:chExt cx="2405160" cy="3286080"/>
                </a:xfrm>
              </p:grpSpPr>
              <p:sp>
                <p:nvSpPr>
                  <p:cNvPr id="428" name="Freeform 25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>
                      <a:gd name="textAreaLeft" fmla="*/ 0 w 662040"/>
                      <a:gd name="textAreaRight" fmla="*/ 662400 w 662040"/>
                      <a:gd name="textAreaTop" fmla="*/ 0 h 2709720"/>
                      <a:gd name="textAreaBottom" fmla="*/ 2710080 h 2709720"/>
                    </a:gdLst>
                    <a:ahLst/>
                    <a:rect l="textAreaLeft" t="textAreaTop" r="textAreaRight" b="textAreaBottom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26"/>
                  <p:cNvSpPr/>
                  <p:nvPr/>
                </p:nvSpPr>
                <p:spPr>
                  <a:xfrm>
                    <a:off x="7601040" y="4575240"/>
                    <a:ext cx="1184400" cy="1949400"/>
                  </a:xfrm>
                  <a:custGeom>
                    <a:avLst/>
                    <a:gdLst>
                      <a:gd name="textAreaLeft" fmla="*/ 0 w 1184400"/>
                      <a:gd name="textAreaRight" fmla="*/ 1184760 w 1184400"/>
                      <a:gd name="textAreaTop" fmla="*/ 0 h 1949400"/>
                      <a:gd name="textAreaBottom" fmla="*/ 1949760 h 1949400"/>
                    </a:gdLst>
                    <a:ahLst/>
                    <a:rect l="textAreaLeft" t="textAreaTop" r="textAreaRight" b="textAreaBottom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6477120" y="3560760"/>
                    <a:ext cx="2405160" cy="1901880"/>
                    <a:chOff x="6477120" y="3560760"/>
                    <a:chExt cx="2405160" cy="1901880"/>
                  </a:xfrm>
                </p:grpSpPr>
                <p:sp>
                  <p:nvSpPr>
                    <p:cNvPr id="431" name="Freeform 28"/>
                    <p:cNvSpPr/>
                    <p:nvPr/>
                  </p:nvSpPr>
                  <p:spPr>
                    <a:xfrm>
                      <a:off x="6705720" y="3560760"/>
                      <a:ext cx="2176560" cy="1771560"/>
                    </a:xfrm>
                    <a:custGeom>
                      <a:avLst/>
                      <a:gdLst>
                        <a:gd name="textAreaLeft" fmla="*/ 0 w 2176560"/>
                        <a:gd name="textAreaRight" fmla="*/ 2176920 w 2176560"/>
                        <a:gd name="textAreaTop" fmla="*/ 0 h 1771560"/>
                        <a:gd name="textAreaBottom" fmla="*/ 1771920 h 1771560"/>
                      </a:gdLst>
                      <a:ahLst/>
                      <a:rect l="textAreaLeft" t="textAreaTop" r="textAreaRight" b="textAreaBottom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29"/>
                    <p:cNvSpPr/>
                    <p:nvPr/>
                  </p:nvSpPr>
                  <p:spPr>
                    <a:xfrm>
                      <a:off x="7448760" y="4467240"/>
                      <a:ext cx="191880" cy="995400"/>
                    </a:xfrm>
                    <a:custGeom>
                      <a:avLst/>
                      <a:gdLst>
                        <a:gd name="textAreaLeft" fmla="*/ 0 w 191880"/>
                        <a:gd name="textAreaRight" fmla="*/ 192240 w 191880"/>
                        <a:gd name="textAreaTop" fmla="*/ 0 h 995400"/>
                        <a:gd name="textAreaBottom" fmla="*/ 995760 h 995400"/>
                      </a:gdLst>
                      <a:ahLst/>
                      <a:rect l="textAreaLeft" t="textAreaTop" r="textAreaRight" b="textAreaBottom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30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>
                        <a:gd name="textAreaLeft" fmla="*/ 0 w 853920"/>
                        <a:gd name="textAreaRight" fmla="*/ 854280 w 85392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Freeform 31"/>
                    <p:cNvSpPr/>
                    <p:nvPr/>
                  </p:nvSpPr>
                  <p:spPr>
                    <a:xfrm>
                      <a:off x="6477120" y="4068720"/>
                      <a:ext cx="885960" cy="106560"/>
                    </a:xfrm>
                    <a:custGeom>
                      <a:avLst/>
                      <a:gdLst>
                        <a:gd name="textAreaLeft" fmla="*/ 0 w 885960"/>
                        <a:gd name="textAreaRight" fmla="*/ 886320 w 8859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35" name="Freeform 32"/>
              <p:cNvSpPr/>
              <p:nvPr/>
            </p:nvSpPr>
            <p:spPr>
              <a:xfrm>
                <a:off x="8388360" y="4496040"/>
                <a:ext cx="789120" cy="1242720"/>
              </a:xfrm>
              <a:custGeom>
                <a:avLst/>
                <a:gdLst>
                  <a:gd name="textAreaLeft" fmla="*/ 0 w 789120"/>
                  <a:gd name="textAreaRight" fmla="*/ 789480 w 789120"/>
                  <a:gd name="textAreaTop" fmla="*/ 0 h 1242720"/>
                  <a:gd name="textAreaBottom" fmla="*/ 1243080 h 1242720"/>
                </a:gdLst>
                <a:ahLst/>
                <a:rect l="textAreaLeft" t="textAreaTop" r="textAreaRight" b="textAreaBottom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33"/>
              <p:cNvSpPr/>
              <p:nvPr/>
            </p:nvSpPr>
            <p:spPr>
              <a:xfrm>
                <a:off x="7942320" y="2760840"/>
                <a:ext cx="1219320" cy="170028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700280"/>
                  <a:gd name="textAreaBottom" fmla="*/ 1700640 h 1700280"/>
                </a:gdLst>
                <a:ahLst/>
                <a:rect l="textAreaLeft" t="textAreaTop" r="textAreaRight" b="textAreaBottom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333360"/>
            <a:ext cx="860436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3300"/>
                </a:solidFill>
                <a:latin typeface="Arial"/>
                <a:ea typeface="宋体"/>
              </a:rPr>
              <a:t>第二十六章 反比例函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3300"/>
                </a:solidFill>
                <a:latin typeface="Arial"/>
                <a:ea typeface="宋体"/>
              </a:rPr>
              <a:t>第</a:t>
            </a:r>
            <a:r>
              <a:rPr b="1" lang="en-US" sz="5000" spc="-1" strike="noStrike">
                <a:solidFill>
                  <a:srgbClr val="cc3300"/>
                </a:solidFill>
                <a:latin typeface="Arial"/>
                <a:ea typeface="宋体"/>
              </a:rPr>
              <a:t>2</a:t>
            </a:r>
            <a:r>
              <a:rPr b="1" lang="zh-CN" sz="5000" spc="-1" strike="noStrike">
                <a:solidFill>
                  <a:srgbClr val="cc3300"/>
                </a:solidFill>
                <a:latin typeface="Arial"/>
                <a:ea typeface="宋体"/>
              </a:rPr>
              <a:t>课时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9900ff"/>
                </a:solidFill>
                <a:latin typeface="Arial"/>
                <a:ea typeface="宋体"/>
              </a:rPr>
              <a:t>反比例函数的图像和性质</a:t>
            </a:r>
            <a:r>
              <a:rPr b="0" lang="zh-CN" sz="5000" spc="-1" strike="noStrike">
                <a:solidFill>
                  <a:srgbClr val="9900ff"/>
                </a:solidFill>
                <a:latin typeface="Arial"/>
                <a:ea typeface="宋体"/>
              </a:rPr>
              <a:t> （</a:t>
            </a:r>
            <a:r>
              <a:rPr b="0" lang="en-US" sz="5000" spc="-1" strike="noStrike">
                <a:solidFill>
                  <a:srgbClr val="9900ff"/>
                </a:solidFill>
                <a:latin typeface="Arial"/>
                <a:ea typeface="宋体"/>
              </a:rPr>
              <a:t>1</a:t>
            </a:r>
            <a:r>
              <a:rPr b="0" lang="zh-CN" sz="5000" spc="-1" strike="noStrike">
                <a:solidFill>
                  <a:srgbClr val="9900ff"/>
                </a:solidFill>
                <a:latin typeface="Arial"/>
                <a:ea typeface="宋体"/>
              </a:rPr>
              <a:t>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5013360"/>
            <a:ext cx="532764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课件制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怀集县大岗中学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石迎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8"/>
          <p:cNvSpPr/>
          <p:nvPr/>
        </p:nvSpPr>
        <p:spPr>
          <a:xfrm>
            <a:off x="1403280" y="1341360"/>
            <a:ext cx="7129440" cy="4680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、新课引入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1595520"/>
            <a:ext cx="52578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过点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的反比例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解析式是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一次函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图象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用描点法作函数图象的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_______________________________________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Rectangle 3"/>
          <p:cNvGraphicFramePr/>
          <p:nvPr/>
        </p:nvGraphicFramePr>
        <p:xfrm>
          <a:off x="4859280" y="1998720"/>
          <a:ext cx="936720" cy="84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Rectangle 3" descr="北京市海淀区龙文文化培训学校 www.longwenedu.com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998720"/>
                    <a:ext cx="93672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987280" y="3660840"/>
            <a:ext cx="5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一条直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23560" y="373212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增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73200" y="522936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列表，描点，连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71640" y="1557360"/>
            <a:ext cx="7200360" cy="1007640"/>
            <a:chOff x="971640" y="1557360"/>
            <a:chExt cx="7200360" cy="1007640"/>
          </a:xfrm>
        </p:grpSpPr>
        <p:sp>
          <p:nvSpPr>
            <p:cNvPr id="153" name="AutoShape 11"/>
            <p:cNvSpPr/>
            <p:nvPr/>
          </p:nvSpPr>
          <p:spPr>
            <a:xfrm>
              <a:off x="971640" y="1557360"/>
              <a:ext cx="7200360" cy="1007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ef8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989280" y="1588680"/>
              <a:ext cx="7173720" cy="931680"/>
              <a:chOff x="989280" y="1588680"/>
              <a:chExt cx="7173720" cy="931680"/>
            </a:xfrm>
          </p:grpSpPr>
          <p:sp>
            <p:nvSpPr>
              <p:cNvPr id="155" name="AutoShape 13"/>
              <p:cNvSpPr/>
              <p:nvPr/>
            </p:nvSpPr>
            <p:spPr>
              <a:xfrm>
                <a:off x="989280" y="2279160"/>
                <a:ext cx="7173720" cy="24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d82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4"/>
              <p:cNvSpPr/>
              <p:nvPr/>
            </p:nvSpPr>
            <p:spPr>
              <a:xfrm>
                <a:off x="989280" y="1588680"/>
                <a:ext cx="7173720" cy="24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ad82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7" name="Picture 25" descr="铅笔小人"/>
          <p:cNvPicPr/>
          <p:nvPr/>
        </p:nvPicPr>
        <p:blipFill>
          <a:blip r:embed="rId1"/>
          <a:stretch/>
        </p:blipFill>
        <p:spPr>
          <a:xfrm>
            <a:off x="6877080" y="3429000"/>
            <a:ext cx="2635200" cy="3629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二、学习目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1773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会用描点法画反比例函数的图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71640" y="3068640"/>
            <a:ext cx="7992720" cy="936360"/>
            <a:chOff x="971640" y="3068640"/>
            <a:chExt cx="7992720" cy="936360"/>
          </a:xfrm>
        </p:grpSpPr>
        <p:sp>
          <p:nvSpPr>
            <p:cNvPr id="161" name="AutoShape 16"/>
            <p:cNvSpPr/>
            <p:nvPr/>
          </p:nvSpPr>
          <p:spPr>
            <a:xfrm>
              <a:off x="971640" y="3068640"/>
              <a:ext cx="7992720" cy="936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30bf3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991080" y="3097800"/>
              <a:ext cx="7962840" cy="865440"/>
              <a:chOff x="991080" y="3097800"/>
              <a:chExt cx="7962840" cy="865440"/>
            </a:xfrm>
          </p:grpSpPr>
          <p:sp>
            <p:nvSpPr>
              <p:cNvPr id="163" name="AutoShape 18"/>
              <p:cNvSpPr/>
              <p:nvPr/>
            </p:nvSpPr>
            <p:spPr>
              <a:xfrm>
                <a:off x="991080" y="3739320"/>
                <a:ext cx="796284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a85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19"/>
              <p:cNvSpPr/>
              <p:nvPr/>
            </p:nvSpPr>
            <p:spPr>
              <a:xfrm>
                <a:off x="991080" y="3097800"/>
                <a:ext cx="796284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8a85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971640" y="3213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结合图象分析并掌握反比例函数的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42920" y="4437000"/>
            <a:ext cx="6768720" cy="1439640"/>
            <a:chOff x="1042920" y="4437000"/>
            <a:chExt cx="6768720" cy="1439640"/>
          </a:xfrm>
        </p:grpSpPr>
        <p:sp>
          <p:nvSpPr>
            <p:cNvPr id="167" name="AutoShape 11"/>
            <p:cNvSpPr/>
            <p:nvPr/>
          </p:nvSpPr>
          <p:spPr>
            <a:xfrm>
              <a:off x="1042920" y="4437000"/>
              <a:ext cx="6768720" cy="1439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ef8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059480" y="4481640"/>
              <a:ext cx="6743520" cy="1330560"/>
              <a:chOff x="1059480" y="4481640"/>
              <a:chExt cx="6743520" cy="1330560"/>
            </a:xfrm>
          </p:grpSpPr>
          <p:sp>
            <p:nvSpPr>
              <p:cNvPr id="169" name="AutoShape 13"/>
              <p:cNvSpPr/>
              <p:nvPr/>
            </p:nvSpPr>
            <p:spPr>
              <a:xfrm>
                <a:off x="1059480" y="5467680"/>
                <a:ext cx="6743520" cy="344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d82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4"/>
              <p:cNvSpPr/>
              <p:nvPr/>
            </p:nvSpPr>
            <p:spPr>
              <a:xfrm>
                <a:off x="1059480" y="4481640"/>
                <a:ext cx="6743520" cy="344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ad82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971640" y="4581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体会函数的三种表示方法，领会数形结合的思想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835280" y="1486080"/>
            <a:ext cx="6410160" cy="2341800"/>
            <a:chOff x="1835280" y="1486080"/>
            <a:chExt cx="6410160" cy="2341800"/>
          </a:xfrm>
        </p:grpSpPr>
        <p:sp>
          <p:nvSpPr>
            <p:cNvPr id="173" name="AutoShape 11"/>
            <p:cNvSpPr/>
            <p:nvPr/>
          </p:nvSpPr>
          <p:spPr>
            <a:xfrm>
              <a:off x="1835280" y="1486080"/>
              <a:ext cx="6410160" cy="23418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ef8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850760" y="1558800"/>
              <a:ext cx="6386040" cy="2165040"/>
              <a:chOff x="1850760" y="1558800"/>
              <a:chExt cx="6386040" cy="2165040"/>
            </a:xfrm>
          </p:grpSpPr>
          <p:sp>
            <p:nvSpPr>
              <p:cNvPr id="175" name="AutoShape 13"/>
              <p:cNvSpPr/>
              <p:nvPr/>
            </p:nvSpPr>
            <p:spPr>
              <a:xfrm>
                <a:off x="1850760" y="3163320"/>
                <a:ext cx="6386040" cy="56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d82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14"/>
              <p:cNvSpPr/>
              <p:nvPr/>
            </p:nvSpPr>
            <p:spPr>
              <a:xfrm>
                <a:off x="1850760" y="1558800"/>
                <a:ext cx="6386040" cy="56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ad82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4920" y="1890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1979640" y="530064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1917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认真阅读课本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至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的内容，完成下面练习，并体验知识点的形成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8"/>
          <p:cNvSpPr/>
          <p:nvPr/>
        </p:nvSpPr>
        <p:spPr>
          <a:xfrm>
            <a:off x="1403280" y="1990800"/>
            <a:ext cx="7561440" cy="46069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763640" y="1125360"/>
            <a:ext cx="4753080" cy="689040"/>
            <a:chOff x="1763640" y="1125360"/>
            <a:chExt cx="4753080" cy="689040"/>
          </a:xfrm>
        </p:grpSpPr>
        <p:sp>
          <p:nvSpPr>
            <p:cNvPr id="184" name="AutoShape 16"/>
            <p:cNvSpPr/>
            <p:nvPr/>
          </p:nvSpPr>
          <p:spPr>
            <a:xfrm>
              <a:off x="1763640" y="1125360"/>
              <a:ext cx="47530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30bf3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775160" y="1146600"/>
              <a:ext cx="4735440" cy="636840"/>
              <a:chOff x="1775160" y="1146600"/>
              <a:chExt cx="4735440" cy="636840"/>
            </a:xfrm>
          </p:grpSpPr>
          <p:sp>
            <p:nvSpPr>
              <p:cNvPr id="186" name="AutoShape 18"/>
              <p:cNvSpPr/>
              <p:nvPr/>
            </p:nvSpPr>
            <p:spPr>
              <a:xfrm>
                <a:off x="1775160" y="161856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a85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19"/>
              <p:cNvSpPr/>
              <p:nvPr/>
            </p:nvSpPr>
            <p:spPr>
              <a:xfrm>
                <a:off x="1775160" y="114660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8a85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8"/>
          <p:cNvSpPr/>
          <p:nvPr/>
        </p:nvSpPr>
        <p:spPr>
          <a:xfrm>
            <a:off x="1979640" y="530064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3"/>
          <p:cNvPicPr/>
          <p:nvPr/>
        </p:nvPicPr>
        <p:blipFill>
          <a:blip r:embed="rId1"/>
          <a:stretch/>
        </p:blipFill>
        <p:spPr>
          <a:xfrm>
            <a:off x="0" y="40464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0040" y="2230560"/>
            <a:ext cx="729000" cy="20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知识点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2286000"/>
            <a:ext cx="7632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反比例函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的共同特征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反比例函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 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 = -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；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 =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的两分支分别位于第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象限，在每个象限内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值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值的增大而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 = -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的两分支分别位于第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象限，在每个象限内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值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值的增大而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在同一直角坐标系内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关于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轴对称，也关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轴对称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36720" y="11937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比例函数的图像和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87680" y="3533760"/>
            <a:ext cx="162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1800" y="306864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双曲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9480" y="34290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一、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75920" y="38037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减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2640" y="4221000"/>
            <a:ext cx="33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二、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484360" y="2133720"/>
            <a:ext cx="6443640" cy="3527280"/>
            <a:chOff x="2484360" y="2133720"/>
            <a:chExt cx="6443640" cy="3527280"/>
          </a:xfrm>
        </p:grpSpPr>
        <p:graphicFrame>
          <p:nvGraphicFramePr>
            <p:cNvPr id="201" name="Rectangle 3"/>
            <p:cNvGraphicFramePr/>
            <p:nvPr/>
          </p:nvGraphicFramePr>
          <p:xfrm>
            <a:off x="5616360" y="2133720"/>
            <a:ext cx="250920" cy="647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2" name="Rectangle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16360" y="2133720"/>
                      <a:ext cx="2509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"/>
            <p:cNvGraphicFramePr/>
            <p:nvPr/>
          </p:nvGraphicFramePr>
          <p:xfrm>
            <a:off x="4751280" y="2637000"/>
            <a:ext cx="250920" cy="647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51280" y="2637000"/>
                      <a:ext cx="2509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"/>
            <p:cNvGraphicFramePr/>
            <p:nvPr/>
          </p:nvGraphicFramePr>
          <p:xfrm>
            <a:off x="3133800" y="3357720"/>
            <a:ext cx="2505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33800" y="3357720"/>
                      <a:ext cx="2505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4319640" y="2205000"/>
            <a:ext cx="250560" cy="648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19640" y="2205000"/>
                      <a:ext cx="25056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"/>
            <p:cNvGraphicFramePr/>
            <p:nvPr/>
          </p:nvGraphicFramePr>
          <p:xfrm>
            <a:off x="2484360" y="4149720"/>
            <a:ext cx="250920" cy="648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84360" y="4149720"/>
                      <a:ext cx="25092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1" name=""/>
            <p:cNvGraphicFramePr/>
            <p:nvPr/>
          </p:nvGraphicFramePr>
          <p:xfrm>
            <a:off x="6335640" y="4942080"/>
            <a:ext cx="250920" cy="647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35640" y="4942080"/>
                      <a:ext cx="2509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6157800" y="2637000"/>
            <a:ext cx="250920" cy="647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157800" y="2637000"/>
                      <a:ext cx="2509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" name=""/>
            <p:cNvGraphicFramePr/>
            <p:nvPr/>
          </p:nvGraphicFramePr>
          <p:xfrm>
            <a:off x="8677080" y="5013360"/>
            <a:ext cx="250920" cy="647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677080" y="5013360"/>
                      <a:ext cx="2509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7" name=""/>
          <p:cNvSpPr/>
          <p:nvPr/>
        </p:nvSpPr>
        <p:spPr>
          <a:xfrm>
            <a:off x="6812280" y="45813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增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1520" y="539280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8"/>
          <p:cNvSpPr/>
          <p:nvPr/>
        </p:nvSpPr>
        <p:spPr>
          <a:xfrm>
            <a:off x="1403280" y="1990800"/>
            <a:ext cx="6193080" cy="44625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6360" y="2286000"/>
            <a:ext cx="763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在平面直角坐标系中画出反比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函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63640" y="1125360"/>
            <a:ext cx="4753080" cy="689040"/>
            <a:chOff x="1763640" y="1125360"/>
            <a:chExt cx="4753080" cy="689040"/>
          </a:xfrm>
        </p:grpSpPr>
        <p:sp>
          <p:nvSpPr>
            <p:cNvPr id="222" name="AutoShape 16"/>
            <p:cNvSpPr/>
            <p:nvPr/>
          </p:nvSpPr>
          <p:spPr>
            <a:xfrm>
              <a:off x="1763640" y="1125360"/>
              <a:ext cx="47530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30bf3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775160" y="1146600"/>
              <a:ext cx="4735440" cy="636840"/>
              <a:chOff x="1775160" y="1146600"/>
              <a:chExt cx="4735440" cy="636840"/>
            </a:xfrm>
          </p:grpSpPr>
          <p:sp>
            <p:nvSpPr>
              <p:cNvPr id="224" name="AutoShape 18"/>
              <p:cNvSpPr/>
              <p:nvPr/>
            </p:nvSpPr>
            <p:spPr>
              <a:xfrm>
                <a:off x="1775160" y="161856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a85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19"/>
              <p:cNvSpPr/>
              <p:nvPr/>
            </p:nvSpPr>
            <p:spPr>
              <a:xfrm>
                <a:off x="1775160" y="114660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8a85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Rectangle 3"/>
          <p:cNvGraphicFramePr/>
          <p:nvPr/>
        </p:nvGraphicFramePr>
        <p:xfrm>
          <a:off x="2889360" y="2637000"/>
          <a:ext cx="24264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2637000"/>
                    <a:ext cx="24264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Picture 4" descr="3"/>
          <p:cNvPicPr/>
          <p:nvPr/>
        </p:nvPicPr>
        <p:blipFill>
          <a:blip r:embed="rId3"/>
          <a:stretch/>
        </p:blipFill>
        <p:spPr>
          <a:xfrm>
            <a:off x="0" y="40464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0040" y="2230560"/>
            <a:ext cx="729000" cy="20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知识点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6720" y="11937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比例函数的图像和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0"/>
          <a:ext cx="15228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522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Rectangle 3"/>
          <p:cNvGraphicFramePr/>
          <p:nvPr/>
        </p:nvGraphicFramePr>
        <p:xfrm>
          <a:off x="4211640" y="2637000"/>
          <a:ext cx="223920" cy="57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Rectangle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11640" y="2637000"/>
                    <a:ext cx="2239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879560" y="335772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解：如图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3635280" y="3238560"/>
            <a:ext cx="3384720" cy="31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3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8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8"/>
          <p:cNvSpPr/>
          <p:nvPr/>
        </p:nvSpPr>
        <p:spPr>
          <a:xfrm>
            <a:off x="1403280" y="1990800"/>
            <a:ext cx="6193080" cy="44625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92360" y="2128680"/>
            <a:ext cx="5689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观察分析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它们有什么共同特征和不同点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63640" y="1125360"/>
            <a:ext cx="4753080" cy="689040"/>
            <a:chOff x="1763640" y="1125360"/>
            <a:chExt cx="4753080" cy="689040"/>
          </a:xfrm>
        </p:grpSpPr>
        <p:sp>
          <p:nvSpPr>
            <p:cNvPr id="243" name="AutoShape 16"/>
            <p:cNvSpPr/>
            <p:nvPr/>
          </p:nvSpPr>
          <p:spPr>
            <a:xfrm>
              <a:off x="1763640" y="1125360"/>
              <a:ext cx="47530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30bf3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1775160" y="1146600"/>
              <a:ext cx="4735440" cy="636840"/>
              <a:chOff x="1775160" y="1146600"/>
              <a:chExt cx="4735440" cy="636840"/>
            </a:xfrm>
          </p:grpSpPr>
          <p:sp>
            <p:nvSpPr>
              <p:cNvPr id="245" name="AutoShape 18"/>
              <p:cNvSpPr/>
              <p:nvPr/>
            </p:nvSpPr>
            <p:spPr>
              <a:xfrm>
                <a:off x="1775160" y="161856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a85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19"/>
              <p:cNvSpPr/>
              <p:nvPr/>
            </p:nvSpPr>
            <p:spPr>
              <a:xfrm>
                <a:off x="1775160" y="114660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8a85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3"/>
          <p:cNvPicPr/>
          <p:nvPr/>
        </p:nvPicPr>
        <p:blipFill>
          <a:blip r:embed="rId1"/>
          <a:stretch/>
        </p:blipFill>
        <p:spPr>
          <a:xfrm>
            <a:off x="0" y="40464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0040" y="2230560"/>
            <a:ext cx="729000" cy="20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知识点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36720" y="11937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比例函数的图像和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0"/>
          <a:ext cx="152280" cy="3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522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0"/>
          <a:ext cx="15228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522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0" y="1844640"/>
          <a:ext cx="468360" cy="97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844640"/>
                    <a:ext cx="46836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Rectangle 3"/>
          <p:cNvGraphicFramePr/>
          <p:nvPr/>
        </p:nvGraphicFramePr>
        <p:xfrm>
          <a:off x="5869080" y="1773360"/>
          <a:ext cx="422280" cy="10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2" name="Rectangle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9080" y="1773360"/>
                    <a:ext cx="42228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700360" y="2708280"/>
          <a:ext cx="331920" cy="853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00360" y="2708280"/>
                    <a:ext cx="3319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24360" y="2565360"/>
          <a:ext cx="390600" cy="993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24360" y="2565360"/>
                    <a:ext cx="39060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2124000" y="4653000"/>
            <a:ext cx="48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解：共同点：图象都是双曲线，关于原点对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不同点：分布的象限不同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3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8"/>
          <p:cNvSpPr/>
          <p:nvPr/>
        </p:nvSpPr>
        <p:spPr>
          <a:xfrm>
            <a:off x="1403280" y="1990800"/>
            <a:ext cx="6913800" cy="44625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76360" y="3716280"/>
            <a:ext cx="6624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解：           函数的图象位于第一、三象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函数的图象位于第二、四象限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函数的图象位于第一、三象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函数的图象位于第二、四象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35280" y="2060640"/>
            <a:ext cx="5689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观察分析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每个函数的图象分别位于哪几个象限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63640" y="1125360"/>
            <a:ext cx="4753080" cy="689040"/>
            <a:chOff x="1763640" y="1125360"/>
            <a:chExt cx="4753080" cy="689040"/>
          </a:xfrm>
        </p:grpSpPr>
        <p:sp>
          <p:nvSpPr>
            <p:cNvPr id="272" name="AutoShape 16"/>
            <p:cNvSpPr/>
            <p:nvPr/>
          </p:nvSpPr>
          <p:spPr>
            <a:xfrm>
              <a:off x="1763640" y="1125360"/>
              <a:ext cx="47530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30bf3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775160" y="1146600"/>
              <a:ext cx="4735440" cy="636840"/>
              <a:chOff x="1775160" y="1146600"/>
              <a:chExt cx="4735440" cy="636840"/>
            </a:xfrm>
          </p:grpSpPr>
          <p:sp>
            <p:nvSpPr>
              <p:cNvPr id="274" name="AutoShape 18"/>
              <p:cNvSpPr/>
              <p:nvPr/>
            </p:nvSpPr>
            <p:spPr>
              <a:xfrm>
                <a:off x="1775160" y="161856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a85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19"/>
              <p:cNvSpPr/>
              <p:nvPr/>
            </p:nvSpPr>
            <p:spPr>
              <a:xfrm>
                <a:off x="1775160" y="114660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8a85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Rectangle 3"/>
          <p:cNvGraphicFramePr/>
          <p:nvPr/>
        </p:nvGraphicFramePr>
        <p:xfrm>
          <a:off x="6084720" y="1989000"/>
          <a:ext cx="25092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989000"/>
                    <a:ext cx="2509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Rectangle 3"/>
          <p:cNvGraphicFramePr/>
          <p:nvPr/>
        </p:nvGraphicFramePr>
        <p:xfrm>
          <a:off x="2268360" y="5013360"/>
          <a:ext cx="84312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Rectangle 3" descr="北京市海淀区龙文文化培训学校 www.longwenedu.com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013360"/>
                    <a:ext cx="8431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1" name="Picture 4" descr="3"/>
          <p:cNvPicPr/>
          <p:nvPr/>
        </p:nvPicPr>
        <p:blipFill>
          <a:blip r:embed="rId5"/>
          <a:stretch/>
        </p:blipFill>
        <p:spPr>
          <a:xfrm>
            <a:off x="0" y="40464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0040" y="2230560"/>
            <a:ext cx="729000" cy="20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知识点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36720" y="11937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比例函数的图像和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761000" y="1989000"/>
          <a:ext cx="277560" cy="5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61000" y="1989000"/>
                    <a:ext cx="27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2987640" y="2349360"/>
          <a:ext cx="254160" cy="649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2349360"/>
                    <a:ext cx="2541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389480" y="2349360"/>
          <a:ext cx="253800" cy="64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89480" y="2349360"/>
                    <a:ext cx="2538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2268360" y="3789360"/>
          <a:ext cx="871560" cy="725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4" name="" descr="北京市海淀区龙文文化培训学校 www.longwenedu.com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68360" y="3789360"/>
                    <a:ext cx="8715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68360" y="4437000"/>
          <a:ext cx="90036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6" name="" descr="北京市海淀区龙文文化培训学校 www.longwenedu.com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68360" y="4437000"/>
                    <a:ext cx="900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Rectangle 3"/>
          <p:cNvGraphicFramePr/>
          <p:nvPr/>
        </p:nvGraphicFramePr>
        <p:xfrm>
          <a:off x="2340000" y="5616720"/>
          <a:ext cx="792000" cy="647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8" name="Rectangle 3" descr="北京市海淀区龙文文化培训学校 www.longwenedu.com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340000" y="5616720"/>
                    <a:ext cx="79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3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8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5:27:26Z</dcterms:created>
  <dc:creator>微软用户</dc:creator>
  <dc:description/>
  <dc:language>en-US</dc:language>
  <cp:lastModifiedBy>User</cp:lastModifiedBy>
  <dcterms:modified xsi:type="dcterms:W3CDTF">2014-08-27T09:32:18Z</dcterms:modified>
  <cp:revision>151</cp:revision>
  <dc:subject/>
  <dc:title>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